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408-9DCD-45F7-8A37-9FEF90CF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78A-435D-4D27-939F-EC5BFF68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38C-D296-44CC-BA98-03F394FC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342-5616-491F-9D3A-7105D664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B81-84C7-4FFA-A16C-B75BE528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65C9-8A3B-45A1-BB44-03E3AD6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67D-EF00-4D49-8CE2-07C6A8E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D1F8-C091-4D33-A551-728EC64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89B6-283D-48FD-8442-2C60039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678A-105C-41A2-BE63-BD5114ED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0AE-5C29-4598-B295-59651A3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992-6FA6-42BB-9EF7-B1FA214F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C84C-8254-4427-9FD5-F145620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EB5-14B0-478E-A214-6BF17A8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37D8-034E-4438-AFFA-74A206D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BA13-D53C-4FB1-AA3A-63EBDD3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899-6DA0-480C-9A64-98BA8FD2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F990-F06F-429D-9860-6280D95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7BF1-11E1-4A78-9513-0FCD7011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4216-63F5-4A43-AA0E-8881BB0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65E2-20C0-4A48-A2C1-D54429B2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FDFC-4374-46F9-867F-4701913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725-D21F-444E-B93C-B38C278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1475-4FA1-4327-8D0A-E55AD03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3BBF-61C0-4F27-9FB1-4856D02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B565-F4FC-4883-8981-F74595F8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DAA0-7768-4FE9-90EB-FC6BAEE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D58F-1A99-4636-AE0D-FD7EBB35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F910-E303-4D3F-9B02-00BB5EE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9A8E-95FA-444A-B4D1-A4E79DFB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449F-FF64-484D-9D0A-A77818A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ECE8-D6E9-47A4-A6A6-EF1B39B8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E628-7675-430F-9529-F62461A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C89-11A1-4F27-9489-54542C9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E8DC-69B8-4372-A5CD-8A3BF64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4DC0-FD11-4B95-8CB4-086F2C8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A3F7-293F-4B3B-8415-88BD64B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F359-B159-4A2B-B370-2293BDC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0B88-9D41-4D6D-A7F3-EA70CE4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1F82-0786-4B19-A9CA-55E6587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7403-D15C-48E1-ADBF-1F5455C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AFC1-22AA-4B60-AF0A-4365D191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880B-2624-4250-A868-F8B17B9B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1C68-AB70-4AF9-9E1B-F654821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0E7-4F60-4D38-B9C2-1D67125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D438-26FC-43F5-B4E7-2A97C5E0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C09E-C06C-4857-AE84-86813F6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4CF7-3849-4BB6-8BC7-B612E05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D9428-A45C-443A-ABC4-E333E2C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F6DE-0C45-408B-AFCA-38499F9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837D-DB8F-4495-8506-E9676A0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6683-5555-4109-AE2E-D1EC8D0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7FB37-07B6-4CF1-B62E-EC2FA17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AFD0-66FC-4AC5-AF38-23CEC5CB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99DA-ADDE-43A8-BC49-DB49562E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F37-47E1-4EB2-9EBD-37245915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E5F3-0034-4084-95C0-5136D8A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1E6A-A0E8-4FB6-AD55-141E8A7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E92ED-9FD9-4220-A1E3-5B1B29E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1696-135C-4687-B2D3-2D937EF5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7C5E-42E2-4386-B33D-8028B7F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61AF-272C-4B48-AA47-C4AA9DC7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0EE6-D3D2-4A99-9EFE-DE5A5E9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32EB-4880-4AF6-8835-6BB1962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2F75-F70E-4826-8544-95743EE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6A6AA-8BAB-4C28-B436-8A357778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04E-BB20-487B-8088-88E5B13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FC2D-1F6D-4F1B-91C5-B7AE1FD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AD0F-D6DE-494C-BE6E-34A9404C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8E52-96E3-463F-8757-3C1B57B5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56D2-6C92-4C40-8BC3-FA660BA1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EC55-F3FC-4D20-9C5C-E3D3C8E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DAE9C-0144-4567-80C6-DC2BE37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B1D9-5887-452C-B4A6-9287FA8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2622D-D1BA-4BE8-A352-F4C0422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D8BB-B5E5-44B9-8B08-180277D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EDA01-206E-4AFA-8508-EFE08A3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A17-3CDF-40B3-9A6A-C6D1FE0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2E66-36C5-406D-8415-CE6CD68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575C-646C-4C43-801B-4ECCAB0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B391-F94C-4EEE-8DA6-1A3DC24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4F6AB-F462-4953-B150-7D6C6511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9345-EFCF-48B8-849E-3BCAEACE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55C72-8506-4983-8EE0-7775303B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BDB2-4C73-4422-8478-F38312B0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D80D7-2868-486A-9A7B-A42ADDC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6F4F1-205E-4A63-B942-4BD2D58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BD98-42EE-4047-8E2C-18A2DA5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A25-8099-45DF-95CC-6A06B5E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D989-26DE-4286-BE27-CFE91B5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F9DD-A533-494D-9015-763041C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50B6-F307-480A-AAD6-344AAB1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CB4F-0D2E-4A6C-A1B9-222574F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AC485-012C-4FD3-B6E2-936F901C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A17B-AA50-4810-A8D1-6340DEB1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865A9-6E40-4F4D-9227-69F21FFB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D74-133F-48FB-8312-B19664DFC0FF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49C-A354-43F8-8A53-D84736500BD5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EAEE-EB1A-47E5-9E7A-B1B59303DCD6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172360" y="630504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CB06-3E73-4003-888E-9BE8FB74D332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F96-3B6E-4DB1-A129-307478E0E6F4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317080" y="6305040"/>
            <a:ext cx="753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152-D82A-4870-83F3-B15982FD2EBB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E5A-09DB-47E6-B8F6-D8EDCBAB4DFB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334E-51C1-4A72-9391-03DC97F71057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43FC-0C7D-416B-B336-A56DFAE01C04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0DA-6938-4493-8C74-96F42BFC2A64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449-8321-43D4-A888-D5D30383AD34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43640" y="6305040"/>
            <a:ext cx="82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D022-20F4-4EE2-9E86-6DADB07E1CC8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3E96-0805-4C84-8046-CA10A40703DD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DEA-5D98-4EF8-A2B2-C9FCBE737D4B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46A-5C4E-45C3-85FF-8B354BA05716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1E8-9355-4393-9C83-AE407702FA9D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Taller intercuatrimest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960800" y="3212640"/>
            <a:ext cx="3067200" cy="10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20e04"/>
                </a:solidFill>
                <a:latin typeface="Gill Sans MT"/>
              </a:rPr>
              <a:t>UNIDAD 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8172360" y="6305400"/>
            <a:ext cx="898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303-961C-4842-AB7F-0E1DA6A5212D}" type="slidenum">
              <a:rPr b="1" lang="es-ES" sz="20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900000" y="785880"/>
            <a:ext cx="7886880" cy="5019480"/>
          </a:xfrm>
          <a:prstGeom prst="rect">
            <a:avLst/>
          </a:prstGeom>
          <a:ln w="0">
            <a:noFill/>
          </a:ln>
        </p:spPr>
      </p:pic>
      <p:sp>
        <p:nvSpPr>
          <p:cNvPr id="393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97F-709D-4F7F-A970-CD480FBE9FED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886880" cy="2206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647640" y="2924280"/>
            <a:ext cx="8388360" cy="2844720"/>
          </a:xfrm>
          <a:prstGeom prst="rect">
            <a:avLst/>
          </a:prstGeom>
          <a:ln w="0">
            <a:noFill/>
          </a:ln>
        </p:spPr>
      </p:pic>
      <p:sp>
        <p:nvSpPr>
          <p:cNvPr id="396" name="6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2A71-EF81-489B-AF3A-24DDDC826B2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9B4-5824-46D8-9B0F-F65A7B9B754C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2 CuadroTexto"/>
          <p:cNvSpPr/>
          <p:nvPr/>
        </p:nvSpPr>
        <p:spPr>
          <a:xfrm>
            <a:off x="961920" y="76500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lución de ED lineales de orden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n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homogéneas con coeficientes cons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- Generalmente las ED son del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"/>
              <p:cNvSpPr txBox="1"/>
              <p:nvPr/>
            </p:nvSpPr>
            <p:spPr>
              <a:xfrm>
                <a:off x="5210280" y="1557360"/>
                <a:ext cx="13064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5 CuadroTexto"/>
          <p:cNvSpPr/>
          <p:nvPr/>
        </p:nvSpPr>
        <p:spPr>
          <a:xfrm>
            <a:off x="971640" y="25653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onde      ,      y        pueden estar acompañadas por coeficientes constantes (números). Si este es el caso, recuerda que la derivada de orden mayor siempre debe de estar sola (con coeficiente un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- Siempre debe estar igualada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987560" y="2560680"/>
                <a:ext cx="2667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2414520" y="2567160"/>
                <a:ext cx="2286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3024360" y="2603520"/>
                <a:ext cx="190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12 CuadroTexto"/>
          <p:cNvSpPr/>
          <p:nvPr/>
        </p:nvSpPr>
        <p:spPr>
          <a:xfrm>
            <a:off x="928800" y="3786120"/>
            <a:ext cx="78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oluc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Obtener la ecuación característica o ecuación auxiliar (ecuación de segundo grado en términos de    ), empleando las siguientes sustitu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530600" y="4414680"/>
                <a:ext cx="171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Picture 14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2087640" cy="1734840"/>
          </a:xfrm>
          <a:prstGeom prst="rect">
            <a:avLst/>
          </a:prstGeom>
          <a:ln w="0">
            <a:noFill/>
          </a:ln>
        </p:spPr>
      </p:pic>
      <p:sp>
        <p:nvSpPr>
          <p:cNvPr id="413" name="1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2EE-FCF8-4DD8-9119-7A792DE3289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826920" y="785880"/>
            <a:ext cx="8209080" cy="4786200"/>
          </a:xfrm>
          <a:prstGeom prst="rect">
            <a:avLst/>
          </a:prstGeom>
          <a:ln w="0">
            <a:noFill/>
          </a:ln>
        </p:spPr>
      </p:pic>
      <p:sp>
        <p:nvSpPr>
          <p:cNvPr id="415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FD73-E572-4199-956D-262EF8E5AB5F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888840" y="981000"/>
            <a:ext cx="7786800" cy="385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820800" y="4573440"/>
            <a:ext cx="8072280" cy="1663920"/>
          </a:xfrm>
          <a:prstGeom prst="rect">
            <a:avLst/>
          </a:prstGeom>
          <a:ln w="0">
            <a:noFill/>
          </a:ln>
        </p:spPr>
      </p:pic>
      <p:sp>
        <p:nvSpPr>
          <p:cNvPr id="418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39F-6031-43D2-8801-78267454565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25560" y="928800"/>
            <a:ext cx="7678800" cy="4286160"/>
          </a:xfrm>
          <a:prstGeom prst="rect">
            <a:avLst/>
          </a:prstGeom>
          <a:ln w="0">
            <a:noFill/>
          </a:ln>
        </p:spPr>
      </p:pic>
      <p:sp>
        <p:nvSpPr>
          <p:cNvPr id="420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E367-1F80-428B-BA12-2B07DD85DFA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900000" y="811080"/>
            <a:ext cx="7386840" cy="3194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900000" y="4168800"/>
            <a:ext cx="7626600" cy="199692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0766-10F3-4610-AFCF-ACCCF2FDD037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932040" y="868320"/>
            <a:ext cx="8032680" cy="5945400"/>
          </a:xfrm>
          <a:prstGeom prst="rect">
            <a:avLst/>
          </a:prstGeom>
          <a:ln w="0">
            <a:noFill/>
          </a:ln>
        </p:spPr>
      </p:pic>
      <p:sp>
        <p:nvSpPr>
          <p:cNvPr id="425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161-0F81-4228-9956-694AC6DEEA19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879480" y="1052640"/>
            <a:ext cx="7693200" cy="4000320"/>
          </a:xfrm>
          <a:prstGeom prst="rect">
            <a:avLst/>
          </a:prstGeom>
          <a:ln w="0">
            <a:noFill/>
          </a:ln>
        </p:spPr>
      </p:pic>
      <p:sp>
        <p:nvSpPr>
          <p:cNvPr id="427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E17-8403-4AF8-BE0C-936A6EDCE5DC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819000" y="588960"/>
            <a:ext cx="8001000" cy="1327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1461960" y="2492280"/>
            <a:ext cx="6926400" cy="3546720"/>
          </a:xfrm>
          <a:prstGeom prst="rect">
            <a:avLst/>
          </a:prstGeom>
          <a:ln w="0">
            <a:noFill/>
          </a:ln>
        </p:spPr>
      </p:pic>
      <p:sp>
        <p:nvSpPr>
          <p:cNvPr id="371" name="4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A9CF-2192-41F2-A5B2-AE7F2450F3D3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1 CuadroTexto"/>
          <p:cNvSpPr/>
          <p:nvPr/>
        </p:nvSpPr>
        <p:spPr>
          <a:xfrm>
            <a:off x="929520" y="270828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ill Sans MT"/>
              </a:rPr>
              <a:t>UNIDAD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601-8C9B-4DF7-A086-182AE73431B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0" y="108900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31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6C23-C55E-4CD4-B226-DC74A22FAE31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7 Y 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70F-E578-4E2F-86EB-C765D7A3D0E0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844560" y="879480"/>
            <a:ext cx="7831080" cy="1914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8317080" cy="2638440"/>
          </a:xfrm>
          <a:prstGeom prst="rect">
            <a:avLst/>
          </a:prstGeom>
          <a:ln w="0">
            <a:noFill/>
          </a:ln>
        </p:spPr>
      </p:pic>
      <p:sp>
        <p:nvSpPr>
          <p:cNvPr id="436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C87-E317-4973-93E0-DAD17948C22F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06200" y="765000"/>
            <a:ext cx="8929800" cy="5029200"/>
          </a:xfrm>
          <a:prstGeom prst="rect">
            <a:avLst/>
          </a:prstGeom>
          <a:ln w="0">
            <a:noFill/>
          </a:ln>
        </p:spPr>
      </p:pic>
      <p:sp>
        <p:nvSpPr>
          <p:cNvPr id="438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B6E-1E97-4FB2-8A64-D628736FE829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826920" y="1063800"/>
            <a:ext cx="7993080" cy="2149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789120" y="3573360"/>
            <a:ext cx="8175600" cy="1390680"/>
          </a:xfrm>
          <a:prstGeom prst="rect">
            <a:avLst/>
          </a:prstGeom>
          <a:ln w="0">
            <a:noFill/>
          </a:ln>
        </p:spPr>
      </p:pic>
      <p:sp>
        <p:nvSpPr>
          <p:cNvPr id="441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032-87A9-4F6F-8372-D3AC6EC2FB9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39640" y="409680"/>
            <a:ext cx="8496360" cy="1482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181160" y="2565360"/>
            <a:ext cx="7711920" cy="1198440"/>
          </a:xfrm>
          <a:prstGeom prst="rect">
            <a:avLst/>
          </a:prstGeom>
          <a:ln w="0">
            <a:noFill/>
          </a:ln>
        </p:spPr>
      </p:pic>
      <p:sp>
        <p:nvSpPr>
          <p:cNvPr id="444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7D40-2112-4442-B201-B667FD9F8CB7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4000320"/>
          </a:xfrm>
          <a:prstGeom prst="rect">
            <a:avLst/>
          </a:prstGeom>
          <a:ln w="0">
            <a:noFill/>
          </a:ln>
        </p:spPr>
      </p:pic>
      <p:sp>
        <p:nvSpPr>
          <p:cNvPr id="446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AF87-98E6-4F04-8596-8949FAB6F1E7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909280" cy="5905440"/>
          </a:xfrm>
          <a:prstGeom prst="rect">
            <a:avLst/>
          </a:prstGeom>
          <a:ln w="0">
            <a:noFill/>
          </a:ln>
        </p:spPr>
      </p:pic>
      <p:sp>
        <p:nvSpPr>
          <p:cNvPr id="448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1830-157D-4B07-918D-B901F5EB194E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820800" y="836640"/>
            <a:ext cx="8072280" cy="2097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4923000" cy="2052720"/>
          </a:xfrm>
          <a:prstGeom prst="rect">
            <a:avLst/>
          </a:prstGeom>
          <a:ln w="0">
            <a:noFill/>
          </a:ln>
        </p:spPr>
      </p:pic>
      <p:sp>
        <p:nvSpPr>
          <p:cNvPr id="374" name="4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DD2-D172-4C3E-8AC0-FE7A87AB3E33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20800" y="476280"/>
            <a:ext cx="8072280" cy="1440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214280" y="2479680"/>
            <a:ext cx="6715440" cy="2963880"/>
          </a:xfrm>
          <a:prstGeom prst="rect">
            <a:avLst/>
          </a:prstGeom>
          <a:ln w="0">
            <a:noFill/>
          </a:ln>
        </p:spPr>
      </p:pic>
      <p:sp>
        <p:nvSpPr>
          <p:cNvPr id="377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D9D-512D-4F5A-A260-021CCCCFAB35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7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57CD-539D-42C0-B776-1C8FF321DFCD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947360" cy="4390920"/>
          </a:xfrm>
          <a:prstGeom prst="rect">
            <a:avLst/>
          </a:prstGeom>
          <a:ln w="0">
            <a:noFill/>
          </a:ln>
        </p:spPr>
      </p:pic>
      <p:sp>
        <p:nvSpPr>
          <p:cNvPr id="383" name="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4EA4-78B9-4956-9476-2B1A38F4604B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55640" y="554040"/>
            <a:ext cx="8029440" cy="4314960"/>
          </a:xfrm>
          <a:prstGeom prst="rect">
            <a:avLst/>
          </a:prstGeom>
          <a:ln w="0">
            <a:noFill/>
          </a:ln>
        </p:spPr>
      </p:pic>
      <p:sp>
        <p:nvSpPr>
          <p:cNvPr id="385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E49-0FEE-468F-BA36-EF350620107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61840" y="476280"/>
            <a:ext cx="8174160" cy="3379680"/>
          </a:xfrm>
          <a:prstGeom prst="rect">
            <a:avLst/>
          </a:prstGeom>
          <a:ln w="0">
            <a:noFill/>
          </a:ln>
        </p:spPr>
      </p:pic>
      <p:sp>
        <p:nvSpPr>
          <p:cNvPr id="387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D0E1-3C4F-4105-B333-47186F207B7A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790560" y="844560"/>
            <a:ext cx="7958160" cy="4672080"/>
          </a:xfrm>
          <a:prstGeom prst="rect">
            <a:avLst/>
          </a:prstGeom>
          <a:ln w="0">
            <a:noFill/>
          </a:ln>
        </p:spPr>
      </p:pic>
      <p:sp>
        <p:nvSpPr>
          <p:cNvPr id="389" name="3 Rectángulo"/>
          <p:cNvSpPr/>
          <p:nvPr/>
        </p:nvSpPr>
        <p:spPr>
          <a:xfrm>
            <a:off x="971640" y="3213000"/>
            <a:ext cx="475272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61840" y="3068640"/>
            <a:ext cx="8031240" cy="2787480"/>
          </a:xfrm>
          <a:prstGeom prst="rect">
            <a:avLst/>
          </a:prstGeom>
          <a:ln w="0">
            <a:noFill/>
          </a:ln>
        </p:spPr>
      </p:pic>
      <p:sp>
        <p:nvSpPr>
          <p:cNvPr id="391" name="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272C-65C7-4CC9-8C62-B334C770B6EA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8:29Z</dcterms:created>
  <dc:creator>Usuario</dc:creator>
  <dc:description/>
  <dc:language>en-US</dc:language>
  <cp:lastModifiedBy>ARGG</cp:lastModifiedBy>
  <dcterms:modified xsi:type="dcterms:W3CDTF">2012-05-02T22:01:31Z</dcterms:modified>
  <cp:revision>104</cp:revision>
  <dc:subject/>
  <dc:title>Diapositiva 1</dc:title>
</cp:coreProperties>
</file>